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4.png" ContentType="image/png"/>
  <Override PartName="/ppt/media/image13.png" ContentType="image/png"/>
  <Override PartName="/ppt/media/image12.wmf" ContentType="image/x-wmf"/>
  <Override PartName="/ppt/media/image4.png" ContentType="image/png"/>
  <Override PartName="/ppt/media/image8.png" ContentType="image/png"/>
  <Override PartName="/ppt/media/image11.wmf" ContentType="image/x-wmf"/>
  <Override PartName="/ppt/media/image3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2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2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66"/>
                </a:solidFill>
                <a:latin typeface="Comic Sans MS"/>
              </a:rPr>
              <a:t>Click to move the slide</a:t>
            </a:r>
            <a:endParaRPr b="1" lang="en-US" sz="48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646A3-62FD-4A1C-B14A-733BD416BF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 Id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nhanced greenhouse effect helps the Earth stay warm/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get hotte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The CO2 stays the same/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increas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because we are burning fossil fu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??? = ways farmers emit GH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hat GHGs do each of these emi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2 machines on diesel, rainfore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itrous oxide – fertiliz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ethane – rice and co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ow are West and East Antarctica different from one anothe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n you remember which part of Antarctica is nearest to another continent? Western – S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kind of things to you think they research? Biologists to research the seals, plants, penguins etc. Meteorologists to explore the weather – global warming, hole in the ozone, monitor the ice breaking 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sides researchers what other jobs are people needed for in Antarctica? Cooks, doctors, nurses, technicians to maintain equi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were on a base, can you think of the problems that might arise? Some getting sick  when they are iced in. 24 hours dark, no fresh food, severe co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ngle of the sun in the sky is very low at the poles so the sun’s heat has to warm up a bigger area – and the sunlight passes through a bigger slice of atmosphere so more gets returned to 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lbedo of snow is about 90% - which means 90% of the heat is reflected straight back out into space – unlike the sea with an albedo of 15% - that means 85% of the sun’s heat is absorbed – this is why the N Pole is warming up quicker than Antarctic – although the Western Peninsular surrounded by sea is warming up quicker – melting ice sheets most on that s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air is clean – no specs of dust or pollution, or water vapour to trap and scatter reflected radiation — radiation that would warm the polar ar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where do CFCs fit in?– Chemicals called CFCs get up into the atmosphere and join with the extra oxygen atoms so ozone cannot be formed – this lets the UV light through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are CFCs so important? They do all sorts of jobs 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rigerants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ellants for aerosols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generating foamed plastics like expanded polystyrene or polyurethane foam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as solvents for dry cleaning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general degreasing purpos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so we had to find other chemicals to do the same jo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o bad about UV light? – causes skin cancer/ cataracts ad may harm other animals and the plants to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 it ever get better?  - Yes, because of the Montreal protocol the CFCs in the air should have broken down by 20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hat is the pattern? Primary, secondary, tertiary, quaternary economic ac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n you name any other primary ec act? Mining, fishing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hat is special about primary? – they grow extract or otherwise acquire raw materi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n you name any other secondary ec act? Any job that takes raw/processed materials and turns it into something el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hat is special about secondary? – see abo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n you name any other tertiary ec act? Doctors, shop workers, transport work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hat is special about tertiary? – they provide services of all kinds – known as the service se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n you name any other quaternary ec act? Inventors scientists designers architects computer programmers consult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hat is special about quaternary? – they invent and make new things – develop new ideas – give advi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Farms that produce mainly field crops? (</a:t>
            </a:r>
            <a:r>
              <a:rPr b="0" lang="en-GB" sz="1000" spc="-1" strike="noStrike">
                <a:solidFill>
                  <a:srgbClr val="cc0000"/>
                </a:solidFill>
                <a:latin typeface="Arial"/>
              </a:rPr>
              <a:t>arable) For example? (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uch as rice, or wheat or soya or suga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Farms that mostly rear animals? (</a:t>
            </a:r>
            <a:r>
              <a:rPr b="0" lang="en-GB" sz="1000" spc="-1" strike="noStrike">
                <a:solidFill>
                  <a:srgbClr val="cc0000"/>
                </a:solidFill>
                <a:latin typeface="Arial"/>
              </a:rPr>
              <a:t>pastoral)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For example? (Sheep farms in Wales, cattle in Australia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Farms that produce crops and animals equally? (</a:t>
            </a:r>
            <a:r>
              <a:rPr b="0" lang="en-GB" sz="1000" spc="-1" strike="noStrike">
                <a:solidFill>
                  <a:srgbClr val="cc0000"/>
                </a:solidFill>
                <a:latin typeface="Arial"/>
              </a:rPr>
              <a:t>mixed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farm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The production of fruit, vegetables, mushrooms and ornamental plants? (</a:t>
            </a:r>
            <a:r>
              <a:rPr b="0" lang="en-GB" sz="1000" spc="-1" strike="noStrike">
                <a:solidFill>
                  <a:srgbClr val="cc0000"/>
                </a:solidFill>
                <a:latin typeface="Arial"/>
              </a:rPr>
              <a:t>Horticulture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) Where is this big business? ( flowers from Kenya,  salad leaves from Hollan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Farms that are run purely for profit? (commercial) In HICs for example? (nearly all of them). In LICs/MICs ? (Coffee and tea plantations in Kenya and Ethiopia, ranching in Brazi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Farms that mostly produce food to feel the family? (subsistence) Eg? (Anywhere in Africa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here a great deal of effort (inputs) is put into growing a lot in a small area? (intensive) Eg? (rice paddies and market gardening (horticulture))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here a large area produced relatively little and the inputs ( labour and chemicals) are low? ( extensive) Eg? ( hill farming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Most modern farms operate from one piece of land over generations ( sedentary) –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However some peoples still follow herds that move to different places by season? (nomadic) Eg? (reindeer herds in northern Europe and Asia, the Msaii in Kenya follow cattl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thers cut down and burn trees in forests, stay for several years before they move on? (shifting) Eg? (In the Amazon and in the forests of Indonesia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is either: mixed or arable or pastoral or horticultu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re either commercial or subsisten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re sedentary or nomadic or shif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re either intensive or extens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7F233-3F4C-4A40-942E-3E63D4505D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038C6-B845-433D-A1FB-A30ADC8992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 Id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atural greenhouse effect helps the Earth stay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war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/get hotter. The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arbon dioxid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/oxygen in the air traps enough of the Sun’s heat to do this. The C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stays the same because animals breath it in/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ou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nd plants take it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i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/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831D0-4E10-47F3-824B-AAE39EE55C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43930-2AA0-42B8-943C-F804867E0D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4FA093-7F49-4618-BA61-083F80F564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864216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50920" y="3948840"/>
            <a:ext cx="864216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3AD383-0CC5-4B04-9D7F-23013EE635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9280" y="105228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50920" y="394884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9280" y="394884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6FDB26-FD83-4019-81AB-664A4C7447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27824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3040" y="1052280"/>
            <a:ext cx="27824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4800" y="1052280"/>
            <a:ext cx="27824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50920" y="3948840"/>
            <a:ext cx="27824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3040" y="3948840"/>
            <a:ext cx="27824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4800" y="3948840"/>
            <a:ext cx="27824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E07FBD-3081-4919-B82E-704C40DD51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A5FB6D-B817-48DD-8101-22B6F02CDED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50920" y="1052280"/>
            <a:ext cx="864216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0D1B84-7781-48E2-83F9-05B9EE4ECAF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864216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70DFC7-BD7F-4D22-AA4E-664E3D16612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421704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9280" y="1052280"/>
            <a:ext cx="421704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D16397-4002-489C-BBDC-DB8C0040D31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428DA3-41ED-471D-B638-FE13AE56ED5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8920" y="102960"/>
            <a:ext cx="8713800" cy="373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90973D-9CD7-4901-A103-E772816BAF9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9280" y="1052280"/>
            <a:ext cx="421704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50920" y="394884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8967B4-6CEF-4DC2-8419-20A605ABD24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50920" y="1052280"/>
            <a:ext cx="864216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A14F2C-75F6-4E02-BCDE-CDB1F84D28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421704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9280" y="105228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9280" y="394884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513A56-1C3F-421A-AE01-C9CD9A8BBC1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9280" y="105228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50920" y="3948840"/>
            <a:ext cx="864216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813B19-7E02-4ACF-BED9-658049B54E2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864216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50920" y="3948840"/>
            <a:ext cx="864216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68C8C0-EDC9-49D5-AF7D-F5CCE0A26E0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9280" y="105228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50920" y="394884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9280" y="394884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D4E82C-73BD-4152-AB6C-B2130D5F7B6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27824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73040" y="1052280"/>
            <a:ext cx="27824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94800" y="1052280"/>
            <a:ext cx="27824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50920" y="3948840"/>
            <a:ext cx="27824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73040" y="3948840"/>
            <a:ext cx="27824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94800" y="3948840"/>
            <a:ext cx="27824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5317A6-822B-484E-AC5A-F63A475F9F7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864216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B741DF-CB44-448D-8998-E4D506B820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421704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9280" y="1052280"/>
            <a:ext cx="421704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84A017-EFBD-44E3-9BEA-46013BE25B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36D8CA-2ED8-4371-96D0-3172DCA28A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8920" y="102960"/>
            <a:ext cx="8713800" cy="373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8C03BB-BAA5-4B1B-BF8D-90994F7B9B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9280" y="1052280"/>
            <a:ext cx="421704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50920" y="394884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9A6F43-C120-46FA-A39D-69D6FB19C9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421704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9280" y="105228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9280" y="394884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441D4D-E638-40C4-9510-8E4B67DDC8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9280" y="105228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50920" y="3948840"/>
            <a:ext cx="864216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9EA97B-03B0-4F65-9D33-5682C778A2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8840" y="-93600"/>
            <a:ext cx="2772720" cy="6950160"/>
            <a:chOff x="-7884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ead5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5600" y="3922560"/>
              <a:ext cx="889560" cy="719640"/>
              <a:chOff x="7560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2492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8440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792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5084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6840" y="2601000"/>
              <a:ext cx="2687040" cy="3117960"/>
              <a:chOff x="684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9456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1196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6576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9100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1540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60040" y="4055040"/>
                <a:ext cx="1833840" cy="1663920"/>
                <a:chOff x="86004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972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3604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992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75560" y="6174000"/>
              <a:ext cx="790560" cy="634680"/>
              <a:chOff x="47556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2132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932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9420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25080" y="1775880"/>
              <a:ext cx="785160" cy="693360"/>
              <a:chOff x="32508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4708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70128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2392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301760" y="0"/>
              <a:ext cx="546480" cy="581400"/>
              <a:chOff x="130176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30176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5196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9220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4616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9168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3020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b2a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2556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792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92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ab2a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92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924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9168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908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8232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3636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792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9648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250920" y="1052280"/>
            <a:ext cx="864216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1"/>
          </p:nvPr>
        </p:nvSpPr>
        <p:spPr>
          <a:xfrm>
            <a:off x="8100720" y="6243480"/>
            <a:ext cx="863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66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86174-D52E-4819-B057-9CADF43265E3}" type="slidenum">
              <a:rPr b="0" lang="en-US" sz="2400" spc="-1" strike="noStrike">
                <a:solidFill>
                  <a:srgbClr val="00669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3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4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1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ea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ea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a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ea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ea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ea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98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1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2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5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6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0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3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4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7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a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4" name="PlaceHolder 1"/>
          <p:cNvSpPr>
            <a:spLocks noGrp="1"/>
          </p:cNvSpPr>
          <p:nvPr>
            <p:ph type="sldNum" idx="2"/>
          </p:nvPr>
        </p:nvSpPr>
        <p:spPr>
          <a:xfrm>
            <a:off x="7956720" y="6243480"/>
            <a:ext cx="863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66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C5E1E-32DC-4A90-A38A-6E8639D0ED70}" type="slidenum">
              <a:rPr b="0" lang="en-US" sz="2400" spc="-1" strike="noStrike">
                <a:solidFill>
                  <a:srgbClr val="00669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1476360" y="54936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66"/>
                </a:solidFill>
                <a:latin typeface="Comic Sans MS"/>
              </a:rPr>
              <a:t>Click to edit the title text format</a:t>
            </a:r>
            <a:endParaRPr b="1" lang="en-US" sz="48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Comic Sans MS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SzPct val="85000"/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.png"/><Relationship Id="rId7" Type="http://schemas.openxmlformats.org/officeDocument/2006/relationships/image" Target="../media/image18.png"/><Relationship Id="rId8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hyperlink" Target="http://ysgol-rhyngrwyd.wikispaces.com/Unit+6+Fragile+World" TargetMode="External"/><Relationship Id="rId10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9.wmf"/><Relationship Id="rId13" Type="http://schemas.openxmlformats.org/officeDocument/2006/relationships/image" Target="../media/image10.png"/><Relationship Id="rId14" Type="http://schemas.openxmlformats.org/officeDocument/2006/relationships/image" Target="../media/image11.wmf"/><Relationship Id="rId15" Type="http://schemas.openxmlformats.org/officeDocument/2006/relationships/image" Target="../media/image12.wmf"/><Relationship Id="rId16" Type="http://schemas.openxmlformats.org/officeDocument/2006/relationships/image" Target="../media/image13.png"/><Relationship Id="rId17" Type="http://schemas.openxmlformats.org/officeDocument/2006/relationships/slideLayout" Target="../slideLayouts/slideLayout4.xml"/><Relationship Id="rId1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476360" y="54936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66"/>
                </a:solidFill>
                <a:latin typeface="Comic Sans MS"/>
              </a:rPr>
              <a:t>Revision part 2</a:t>
            </a:r>
            <a:endParaRPr b="1" lang="en-US" sz="48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1547280" y="4221000"/>
            <a:ext cx="61470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D61990-48AA-4701-984F-8B6C8871FAD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102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Comic Sans MS"/>
              </a:rPr>
              <a:t>So these are the things that can happen if we increase the amount of greenhouses gases</a:t>
            </a:r>
            <a:endParaRPr b="0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215" name=""/>
          <p:cNvSpPr/>
          <p:nvPr/>
        </p:nvSpPr>
        <p:spPr>
          <a:xfrm>
            <a:off x="2340000" y="2708280"/>
            <a:ext cx="3672000" cy="72072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ome places will be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68360" y="4127040"/>
            <a:ext cx="2232000" cy="708120"/>
          </a:xfrm>
          <a:prstGeom prst="cloudCallout">
            <a:avLst>
              <a:gd name="adj1" fmla="val 50837"/>
              <a:gd name="adj2" fmla="val -162245"/>
            </a:avLst>
          </a:prstGeom>
          <a:solidFill>
            <a:srgbClr val="ccffcc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wetter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372360" y="1677600"/>
            <a:ext cx="2232000" cy="708120"/>
          </a:xfrm>
          <a:prstGeom prst="cloudCallout">
            <a:avLst>
              <a:gd name="adj1" fmla="val -79930"/>
              <a:gd name="adj2" fmla="val 106097"/>
            </a:avLst>
          </a:prstGeom>
          <a:solidFill>
            <a:srgbClr val="ebf7ff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colder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419640" y="4414320"/>
            <a:ext cx="2232000" cy="708120"/>
          </a:xfrm>
          <a:prstGeom prst="cloudCallout">
            <a:avLst>
              <a:gd name="adj1" fmla="val 5328"/>
              <a:gd name="adj2" fmla="val -200810"/>
            </a:avLst>
          </a:prstGeom>
          <a:solidFill>
            <a:srgbClr val="ffe497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drier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372360" y="3693600"/>
            <a:ext cx="2232000" cy="708120"/>
          </a:xfrm>
          <a:prstGeom prst="cloudCallout">
            <a:avLst>
              <a:gd name="adj1" fmla="val -78587"/>
              <a:gd name="adj2" fmla="val -72356"/>
            </a:avLst>
          </a:prstGeom>
          <a:solidFill>
            <a:srgbClr val="ff9b9b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Windier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39640" y="1605960"/>
            <a:ext cx="2232000" cy="708120"/>
          </a:xfrm>
          <a:prstGeom prst="cloudCallout">
            <a:avLst>
              <a:gd name="adj1" fmla="val 62365"/>
              <a:gd name="adj2" fmla="val 143949"/>
            </a:avLst>
          </a:prstGeom>
          <a:solidFill>
            <a:srgbClr val="ead5ff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Hotter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38040" y="5384880"/>
            <a:ext cx="7989840" cy="131940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Key Idea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The enhanced greenhouse effect helps the Earth stay warm/ get hotter. The CO2 stays the same/increases because we are burning fossil fuels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F851AF-4852-4FCD-B3D5-34FBEEDDCAD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Comic Sans MS"/>
              </a:rPr>
              <a:t>The impacts of climate change on Farming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64216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The impacts on farming without action are mostly negative: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04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Hotter and drier places will produce less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04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As in these places the soil will become poorer 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04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Places liable to saltwater flooding will become unproductive.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04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Warmer and wetter places are more likely to suffer from disease, lowering the yield.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But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04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Places in the higher latitudes (nearer the poles) are getting a longer growing season and so can produce more and different things than they have managed before.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B173B2-F10F-4329-8A77-E3CB1F920AC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78920" y="318600"/>
            <a:ext cx="8713800" cy="87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Comic Sans MS"/>
              </a:rPr>
              <a:t>What is the ??? that link these?</a:t>
            </a:r>
            <a:endParaRPr b="0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225" name=""/>
          <p:cNvSpPr/>
          <p:nvPr/>
        </p:nvSpPr>
        <p:spPr>
          <a:xfrm>
            <a:off x="3780000" y="2852640"/>
            <a:ext cx="1655640" cy="72072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???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0" y="2849760"/>
            <a:ext cx="3205080" cy="2024640"/>
          </a:xfrm>
          <a:prstGeom prst="cloudCallout">
            <a:avLst>
              <a:gd name="adj1" fmla="val 66236"/>
              <a:gd name="adj2" fmla="val -23550"/>
            </a:avLst>
          </a:prstGeom>
          <a:solidFill>
            <a:srgbClr val="ccffcc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arming is the main cause of cutting down the rain forests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435640" y="1261800"/>
            <a:ext cx="3314520" cy="1554840"/>
          </a:xfrm>
          <a:prstGeom prst="cloudCallout">
            <a:avLst>
              <a:gd name="adj1" fmla="val -57513"/>
              <a:gd name="adj2" fmla="val 59560"/>
            </a:avLst>
          </a:prstGeom>
          <a:solidFill>
            <a:srgbClr val="ebf7ff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armers use lots of machines run on diesel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916360" y="4700160"/>
            <a:ext cx="2232000" cy="1554480"/>
          </a:xfrm>
          <a:prstGeom prst="cloudCallout">
            <a:avLst>
              <a:gd name="adj1" fmla="val 24097"/>
              <a:gd name="adj2" fmla="val -104638"/>
            </a:avLst>
          </a:prstGeom>
          <a:solidFill>
            <a:srgbClr val="ffe497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Cows burp and ? A lot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364000" y="3811680"/>
            <a:ext cx="3311640" cy="2588760"/>
          </a:xfrm>
          <a:prstGeom prst="cloudCallout">
            <a:avLst>
              <a:gd name="adj1" fmla="val -60500"/>
              <a:gd name="adj2" fmla="val -54282"/>
            </a:avLst>
          </a:prstGeom>
          <a:solidFill>
            <a:srgbClr val="ff9b9b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armers use fertilizer from which nitrous oxide is given off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50920" y="1247040"/>
            <a:ext cx="2950920" cy="1466280"/>
          </a:xfrm>
          <a:prstGeom prst="cloudCallout">
            <a:avLst>
              <a:gd name="adj1" fmla="val 72259"/>
              <a:gd name="adj2" fmla="val 59421"/>
            </a:avLst>
          </a:prstGeom>
          <a:solidFill>
            <a:srgbClr val="ead5ff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Rice paddies produce lots of methane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A4C073-9FED-44F1-A159-9C460A2BF1A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4572000" y="2491920"/>
            <a:ext cx="3271680" cy="152208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Farmer mitigate against climate change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24000" y="2413080"/>
            <a:ext cx="2881080" cy="1084680"/>
          </a:xfrm>
          <a:prstGeom prst="cloudCallout">
            <a:avLst>
              <a:gd name="adj1" fmla="val 97097"/>
              <a:gd name="adj2" fmla="val 19939"/>
            </a:avLst>
          </a:prstGeom>
          <a:solidFill>
            <a:srgbClr val="ccffcc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arming – agro forestry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508720" y="379080"/>
            <a:ext cx="3314520" cy="2024640"/>
          </a:xfrm>
          <a:prstGeom prst="cloudCallout">
            <a:avLst>
              <a:gd name="adj1" fmla="val -47851"/>
              <a:gd name="adj2" fmla="val 49268"/>
            </a:avLst>
          </a:prstGeom>
          <a:solidFill>
            <a:srgbClr val="ebf7ff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armers could use their waste to produce biodeisal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50920" y="4425480"/>
            <a:ext cx="4174920" cy="2406240"/>
          </a:xfrm>
          <a:prstGeom prst="cloudCallout">
            <a:avLst>
              <a:gd name="adj1" fmla="val 54444"/>
              <a:gd name="adj2" fmla="val -77509"/>
            </a:avLst>
          </a:prstGeom>
          <a:solidFill>
            <a:srgbClr val="ffe497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Cows burp: food supplements like flax, alfalfa and fish oil reduce burps and ? A lot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716360" y="4384440"/>
            <a:ext cx="4175280" cy="2406240"/>
          </a:xfrm>
          <a:prstGeom prst="cloudCallout">
            <a:avLst>
              <a:gd name="adj1" fmla="val -25069"/>
              <a:gd name="adj2" fmla="val -54171"/>
            </a:avLst>
          </a:prstGeom>
          <a:solidFill>
            <a:srgbClr val="ff9b9b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armers use fertilizer : they can use systems like drip irrigation to reduce how much they use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0" y="26640"/>
            <a:ext cx="5076720" cy="1936080"/>
          </a:xfrm>
          <a:prstGeom prst="cloudCallout">
            <a:avLst>
              <a:gd name="adj1" fmla="val 48180"/>
              <a:gd name="adj2" fmla="val 66004"/>
            </a:avLst>
          </a:prstGeom>
          <a:solidFill>
            <a:srgbClr val="ead5ff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Rice paddies: you do not have to flood the rice the whole time – just for a short while 2 or 3 times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8A4A91-A96D-48B1-8E73-53D826D9AF3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Comic Sans MS"/>
              </a:rPr>
              <a:t>Most places will be worse off as a result of climate change</a:t>
            </a:r>
            <a:br>
              <a:rPr sz="4000"/>
            </a:br>
            <a:r>
              <a:rPr b="0" lang="en-US" sz="4000" spc="-1" strike="noStrike">
                <a:solidFill>
                  <a:srgbClr val="006666"/>
                </a:solidFill>
                <a:latin typeface="Comic Sans MS"/>
              </a:rPr>
              <a:t>Especially those in poorer areas such as Africa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50920" y="2492280"/>
            <a:ext cx="864216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But there are things that can be done to make climate change easier to deal with: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For example 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reducing the effects of the increasing drought – few plants soil erosion and the land turning into dessert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Reducing the effects of heavy rain all at once and then none for some time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754E82-FB47-41F9-B066-0F9C2115519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Comic Sans MS"/>
              </a:rPr>
              <a:t>What to do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864216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99"/>
                </a:solidFill>
                <a:latin typeface="Comic Sans MS"/>
              </a:rPr>
              <a:t>Underneath the wiki page link to this PowerPoint is a PowerPoint of your work open that has been downloaded from slideshare. Go through the examples. 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99"/>
                </a:solidFill>
                <a:latin typeface="Comic Sans MS"/>
              </a:rPr>
              <a:t>Choose 2 good ones and :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SzPct val="10204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99"/>
                </a:solidFill>
                <a:latin typeface="Comic Sans MS"/>
              </a:rPr>
              <a:t>Know which country it is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SzPct val="10204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99"/>
                </a:solidFill>
                <a:latin typeface="Comic Sans MS"/>
              </a:rPr>
              <a:t>What is the problem?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SzPct val="10204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99"/>
                </a:solidFill>
                <a:latin typeface="Comic Sans MS"/>
              </a:rPr>
              <a:t>What is the solution? 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SzPct val="10204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99"/>
                </a:solidFill>
                <a:latin typeface="Comic Sans MS"/>
              </a:rPr>
              <a:t>Why does it work?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99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6699"/>
                </a:solidFill>
                <a:latin typeface="Comic Sans MS"/>
              </a:rPr>
              <a:t>Look Here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cc99ff"/>
                </a:solidFill>
                <a:uFillTx/>
                <a:latin typeface="Comic Sans MS"/>
                <a:hlinkClick r:id="rId9"/>
              </a:rPr>
              <a:t>http://ysgol-rhyngrwyd.wikispaces.com/Unit+6+Fragile+World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A6C56D-6645-49B1-9F44-54E53D8695C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476360" y="549360"/>
            <a:ext cx="619272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66"/>
                </a:solidFill>
                <a:latin typeface="Comic Sans MS"/>
              </a:rPr>
              <a:t>The Antarctic</a:t>
            </a:r>
            <a:br>
              <a:rPr sz="4800"/>
            </a:br>
            <a:endParaRPr b="1" lang="en-US" sz="48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826920" y="1700280"/>
            <a:ext cx="777744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Comic Sans MS"/>
              </a:rPr>
              <a:t>Do you know where Antarctica is? </a:t>
            </a:r>
            <a:endParaRPr b="1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Comic Sans MS"/>
              </a:rPr>
              <a:t>Why is seen as a special place? </a:t>
            </a:r>
            <a:endParaRPr b="1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Comic Sans MS"/>
              </a:rPr>
              <a:t>Do you know what the Antarctic Treaty stands for? </a:t>
            </a:r>
            <a:endParaRPr b="1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Comic Sans MS"/>
              </a:rPr>
              <a:t>Why is Antarctica so cold?</a:t>
            </a:r>
            <a:endParaRPr b="1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Comic Sans MS"/>
              </a:rPr>
              <a:t>What are the threats against its continued prosperity?  </a:t>
            </a:r>
            <a:endParaRPr b="1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Comic Sans MS"/>
              </a:rPr>
              <a:t>Could you argue for/against tourism?</a:t>
            </a:r>
            <a:endParaRPr b="1" lang="en-US" sz="28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A60707-CCC2-411E-8D78-138F1D6DC6A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1979640" y="2378160"/>
            <a:ext cx="7157880" cy="443556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1547640" y="182520"/>
            <a:ext cx="7525080" cy="252576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324000" y="5589720"/>
            <a:ext cx="2050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Revising Antarctica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08000" y="765000"/>
            <a:ext cx="1871640" cy="2519640"/>
          </a:xfrm>
          <a:prstGeom prst="wedgeRoundRectCallout">
            <a:avLst>
              <a:gd name="adj1" fmla="val 130324"/>
              <a:gd name="adj2" fmla="val 39476"/>
              <a:gd name="adj3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Antarctica – what makes it such a special place? 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070D4E-4EE4-4483-83BD-E0304C3919A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Comic Sans MS"/>
              </a:rPr>
              <a:t>The Treaty from 1961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864216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Key ideas – any country can carry out scientific research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All testing of nuclear weapons and the dumping of radioactive waste is forbidden in Antarctica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No military activities are allowed in Antarctica – the continent must be used for peaceful purposes only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Claims to slices of Antarctica by individual countries are set aside so long as the Treaty exists 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755867-B1DE-4144-859A-67D2DC3379A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Comic Sans MS"/>
              </a:rPr>
              <a:t>The Treaty from 1961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250920" y="836280"/>
            <a:ext cx="864216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In addition, there have been additions that protect the flora and fauna of Antarctica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In particular the Antarctic seals - both Ross and Antarctic fur seals are fully protected – the killing of other seals is tightly controlled – no hunting for skins of any type.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Convention on the Conservation of Antarctic Marine Living Resources (1982) controls the amount of fishing that is allowed in Antarctic waters by giving licences to fish up to a certain agreed limit (a quota). 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8A5362-0CEA-4308-9E5E-DB925D1471D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Comic Sans MS"/>
              </a:rPr>
              <a:t>What did we study? – working world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864216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Can you sort economic activities (jobs) into primary, secondary and tertiary activities? 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Do you know the words that describe different types of farming?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Can you explain how the enhanced greenhouse affect has been caused? Do you know how climate change can affect different places?  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Can you explain one way how farming is negatively affected by climate change and one positive way?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Do you know 2 ways that farmers add to climate change? 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Can you think of 2 things farmers do to cancel out some of the harm they do? 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Can you describe a way that farmers in Africa have adapted to climate change?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745DE7-57E1-419C-9AD0-80F7D1DC961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Comic Sans MS"/>
              </a:rPr>
              <a:t>Many countries have bases in Antarctica</a:t>
            </a:r>
            <a:endParaRPr b="0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864216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As we know the only real justification is for scientific research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What kind of things to you think they research? 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Besides researchers what other jobs are people needed for in Antarctica?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If you were on a base, can you think of the problems that might arise, especially if you stay over the winter?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EA0906-DDB5-4423-A659-D10BB7003D8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Comic Sans MS"/>
              </a:rPr>
              <a:t>Why is the Antarctic so cold?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254" name=""/>
          <p:cNvSpPr/>
          <p:nvPr/>
        </p:nvSpPr>
        <p:spPr>
          <a:xfrm>
            <a:off x="1403280" y="1558800"/>
            <a:ext cx="2737080" cy="891000"/>
          </a:xfrm>
          <a:prstGeom prst="wedgeRoundRectCallout">
            <a:avLst>
              <a:gd name="adj1" fmla="val -43546"/>
              <a:gd name="adj2" fmla="val 122976"/>
              <a:gd name="adj3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e angle of the sun in the sky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076720" y="1557360"/>
            <a:ext cx="2737080" cy="1286280"/>
          </a:xfrm>
          <a:prstGeom prst="wedgeRoundRectCallout">
            <a:avLst>
              <a:gd name="adj1" fmla="val -43532"/>
              <a:gd name="adj2" fmla="val 69777"/>
              <a:gd name="adj3" fmla="val 16667"/>
            </a:avLst>
          </a:prstGeom>
          <a:solidFill>
            <a:srgbClr val="ebf7ff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e albedo of snow is about 90%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716360" y="3805200"/>
            <a:ext cx="2737080" cy="496440"/>
          </a:xfrm>
          <a:prstGeom prst="wedgeRoundRectCallout">
            <a:avLst>
              <a:gd name="adj1" fmla="val -43532"/>
              <a:gd name="adj2" fmla="val 164925"/>
              <a:gd name="adj3" fmla="val 16667"/>
            </a:avLst>
          </a:prstGeom>
          <a:solidFill>
            <a:srgbClr val="ead5ff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en air is clean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39640" y="3933720"/>
            <a:ext cx="3168720" cy="2399760"/>
          </a:xfrm>
          <a:prstGeom prst="cloudCallout">
            <a:avLst>
              <a:gd name="adj1" fmla="val 58754"/>
              <a:gd name="adj2" fmla="val -66541"/>
            </a:avLst>
          </a:prstGeom>
          <a:solidFill>
            <a:srgbClr val="ffffcc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So why do all these make it colder then?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700BFC-3046-4230-88CF-0CC6C80AF61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Comic Sans MS"/>
              </a:rPr>
              <a:t>What is the ozone layer?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259" name=""/>
          <p:cNvSpPr/>
          <p:nvPr/>
        </p:nvSpPr>
        <p:spPr>
          <a:xfrm>
            <a:off x="611280" y="851040"/>
            <a:ext cx="3097080" cy="1286280"/>
          </a:xfrm>
          <a:prstGeom prst="wedgeRoundRectCallout">
            <a:avLst>
              <a:gd name="adj1" fmla="val -21157"/>
              <a:gd name="adj2" fmla="val 79291"/>
              <a:gd name="adj3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Ozone is 3 atoms of oxygen joined together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84720" y="907920"/>
            <a:ext cx="4176720" cy="1286280"/>
          </a:xfrm>
          <a:prstGeom prst="wedgeRoundRectCallout">
            <a:avLst>
              <a:gd name="adj1" fmla="val -20587"/>
              <a:gd name="adj2" fmla="val 80578"/>
              <a:gd name="adj3" fmla="val 16667"/>
            </a:avLst>
          </a:prstGeom>
          <a:solidFill>
            <a:srgbClr val="ebf7ff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e ozone layer is a layer high above the earth containing ozone 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716360" y="2593800"/>
            <a:ext cx="4103640" cy="2076120"/>
          </a:xfrm>
          <a:prstGeom prst="wedgeRoundRectCallout">
            <a:avLst>
              <a:gd name="adj1" fmla="val -53166"/>
              <a:gd name="adj2" fmla="val 28620"/>
              <a:gd name="adj3" fmla="val 16667"/>
            </a:avLst>
          </a:prstGeom>
          <a:solidFill>
            <a:srgbClr val="ead5ff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e ozone layer protects the earth from UV light from the Sun getting through - UV damages living tissue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482920" y="5075280"/>
            <a:ext cx="3168720" cy="1836360"/>
          </a:xfrm>
          <a:prstGeom prst="cloudCallout">
            <a:avLst>
              <a:gd name="adj1" fmla="val 10365"/>
              <a:gd name="adj2" fmla="val -86708"/>
            </a:avLst>
          </a:prstGeom>
          <a:solidFill>
            <a:srgbClr val="ffffcc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Why are CFCs so important? 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24000" y="2637000"/>
            <a:ext cx="3168360" cy="1272240"/>
          </a:xfrm>
          <a:prstGeom prst="cloudCallout">
            <a:avLst>
              <a:gd name="adj1" fmla="val 58759"/>
              <a:gd name="adj2" fmla="val -66291"/>
            </a:avLst>
          </a:prstGeom>
          <a:solidFill>
            <a:srgbClr val="ffffcc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So where do CFCs fit in? 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95280" y="3933720"/>
            <a:ext cx="3168720" cy="1836360"/>
          </a:xfrm>
          <a:prstGeom prst="cloudCallout">
            <a:avLst>
              <a:gd name="adj1" fmla="val 58754"/>
              <a:gd name="adj2" fmla="val -71361"/>
            </a:avLst>
          </a:prstGeom>
          <a:solidFill>
            <a:srgbClr val="ffffcc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What is so bad about UV light? 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794200" y="4869000"/>
            <a:ext cx="2522880" cy="1836360"/>
          </a:xfrm>
          <a:prstGeom prst="cloudCallout">
            <a:avLst>
              <a:gd name="adj1" fmla="val 175"/>
              <a:gd name="adj2" fmla="val -86648"/>
            </a:avLst>
          </a:prstGeom>
          <a:solidFill>
            <a:srgbClr val="ffffcc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Will it ever get better? 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1D20D2-191B-4851-9B5C-11AEC781DAD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6516720" y="673200"/>
            <a:ext cx="2484360" cy="239544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Comic Sans MS"/>
              </a:rPr>
              <a:t>What are the issues of human impact on Antarctica?</a:t>
            </a:r>
            <a:endParaRPr b="0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50920" y="1267920"/>
            <a:ext cx="864216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99"/>
                </a:solidFill>
                <a:latin typeface="Comic Sans MS"/>
              </a:rPr>
              <a:t>There are a lot of natural resource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s</a:t>
            </a:r>
            <a:r>
              <a:rPr b="0" lang="en-GB" sz="2800" spc="-1" strike="noStrike">
                <a:solidFill>
                  <a:srgbClr val="006699"/>
                </a:solidFill>
                <a:latin typeface="Comic Sans MS"/>
              </a:rPr>
              <a:t>                             but so far no-one has shown intere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st</a:t>
            </a:r>
            <a:r>
              <a:rPr b="0" lang="en-GB" sz="2800" spc="-1" strike="noStrike">
                <a:solidFill>
                  <a:srgbClr val="006699"/>
                </a:solidFill>
                <a:latin typeface="Comic Sans MS"/>
              </a:rPr>
              <a:t>                                  in mining etc as it just too difficult.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99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6699"/>
                </a:solidFill>
                <a:latin typeface="Comic Sans MS"/>
              </a:rPr>
              <a:t>There is commercial fishing and                            there are pirates who are not obeying the rules 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99"/>
                </a:solidFill>
                <a:latin typeface="Comic Sans MS"/>
              </a:rPr>
              <a:t>Flotsam is an issue as it is hurting the wildlife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99"/>
                </a:solidFill>
                <a:latin typeface="Comic Sans MS"/>
              </a:rPr>
              <a:t>But waste/rubbish/oil are all tightly controlled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99"/>
                </a:solidFill>
                <a:latin typeface="Comic Sans MS"/>
              </a:rPr>
              <a:t>However tourism is a growing issue as more people want to visit.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99"/>
                </a:solidFill>
                <a:latin typeface="Comic Sans MS"/>
              </a:rPr>
              <a:t>So sticking with tourism – what are the concerns? Do look at the PPs from you guys on the page where this PP is kept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4A9A7E-5A39-48D7-846E-83020F80940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71380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Comic Sans MS"/>
              </a:rPr>
              <a:t>How can we classify jobs – </a:t>
            </a:r>
            <a:br>
              <a:rPr sz="3600"/>
            </a:br>
            <a:r>
              <a:rPr b="0" lang="en-US" sz="3600" spc="-1" strike="noStrike">
                <a:solidFill>
                  <a:srgbClr val="006666"/>
                </a:solidFill>
                <a:latin typeface="Comic Sans MS"/>
              </a:rPr>
              <a:t>why are the pictures in this order?</a:t>
            </a:r>
            <a:endParaRPr b="0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250920" y="1773360"/>
            <a:ext cx="8642160" cy="4824360"/>
            <a:chOff x="250920" y="1773360"/>
            <a:chExt cx="8642160" cy="4824360"/>
          </a:xfrm>
        </p:grpSpPr>
        <p:sp>
          <p:nvSpPr>
            <p:cNvPr id="176" name=""/>
            <p:cNvSpPr/>
            <p:nvPr/>
          </p:nvSpPr>
          <p:spPr>
            <a:xfrm>
              <a:off x="4572000" y="4186080"/>
              <a:ext cx="4321080" cy="24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50920" y="4186080"/>
              <a:ext cx="4321080" cy="24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72000" y="1773360"/>
              <a:ext cx="4321080" cy="241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50920" y="1773360"/>
              <a:ext cx="4321080" cy="241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50920" y="1773360"/>
              <a:ext cx="8642160" cy="0"/>
            </a:xfrm>
            <a:prstGeom prst="line">
              <a:avLst/>
            </a:prstGeom>
            <a:ln cap="sq" w="1260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50920" y="4186080"/>
              <a:ext cx="8642160" cy="0"/>
            </a:xfrm>
            <a:prstGeom prst="line">
              <a:avLst/>
            </a:prstGeom>
            <a:ln w="1260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50920" y="6597720"/>
              <a:ext cx="8642160" cy="0"/>
            </a:xfrm>
            <a:prstGeom prst="line">
              <a:avLst/>
            </a:prstGeom>
            <a:ln cap="sq" w="1260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50920" y="1773360"/>
              <a:ext cx="0" cy="4824360"/>
            </a:xfrm>
            <a:prstGeom prst="line">
              <a:avLst/>
            </a:prstGeom>
            <a:ln cap="sq" w="1260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572000" y="1773360"/>
              <a:ext cx="0" cy="4824360"/>
            </a:xfrm>
            <a:prstGeom prst="line">
              <a:avLst/>
            </a:prstGeom>
            <a:ln w="1260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8893080" y="1773360"/>
              <a:ext cx="0" cy="4824360"/>
            </a:xfrm>
            <a:prstGeom prst="line">
              <a:avLst/>
            </a:prstGeom>
            <a:ln cap="sq" w="1260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pic>
          <p:nvPicPr>
            <p:cNvPr id="186" name="" descr=""/>
            <p:cNvPicPr/>
            <p:nvPr/>
          </p:nvPicPr>
          <p:blipFill>
            <a:blip r:embed="rId1"/>
            <a:stretch/>
          </p:blipFill>
          <p:spPr>
            <a:xfrm>
              <a:off x="1042920" y="1916280"/>
              <a:ext cx="2637000" cy="20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7" name="" descr=""/>
            <p:cNvPicPr/>
            <p:nvPr/>
          </p:nvPicPr>
          <p:blipFill>
            <a:blip r:embed="rId2"/>
            <a:stretch/>
          </p:blipFill>
          <p:spPr>
            <a:xfrm>
              <a:off x="5580000" y="2205000"/>
              <a:ext cx="1819440" cy="1409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" name="" descr=""/>
            <p:cNvPicPr/>
            <p:nvPr/>
          </p:nvPicPr>
          <p:blipFill>
            <a:blip r:embed="rId3"/>
            <a:stretch/>
          </p:blipFill>
          <p:spPr>
            <a:xfrm>
              <a:off x="1332000" y="4437000"/>
              <a:ext cx="1066680" cy="182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9" name="" descr=""/>
            <p:cNvPicPr/>
            <p:nvPr/>
          </p:nvPicPr>
          <p:blipFill>
            <a:blip r:embed="rId4"/>
            <a:stretch/>
          </p:blipFill>
          <p:spPr>
            <a:xfrm>
              <a:off x="5796000" y="4365720"/>
              <a:ext cx="1447920" cy="1828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0" name=""/>
          <p:cNvSpPr/>
          <p:nvPr/>
        </p:nvSpPr>
        <p:spPr>
          <a:xfrm>
            <a:off x="4643280" y="1125360"/>
            <a:ext cx="4176720" cy="1008360"/>
          </a:xfrm>
          <a:prstGeom prst="wedgeRoundRectCallout">
            <a:avLst>
              <a:gd name="adj1" fmla="val 20921"/>
              <a:gd name="adj2" fmla="val 70000"/>
              <a:gd name="adj3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If you are bit unsure of how to sort these – see the dustbin game on the wiki for Year 7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818A63-2277-4532-BDAD-FF34F501616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Comic Sans MS"/>
              </a:rPr>
              <a:t>Farming can be classified according to …</a:t>
            </a:r>
            <a:endParaRPr b="0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864216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66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Specialisation – what kind of products are produced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Arable </a:t>
            </a: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pastoral</a:t>
            </a: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mixed</a:t>
            </a: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Horticulture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66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Its economic status – the role of money in the farm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Commercial</a:t>
            </a: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subsistence</a:t>
            </a: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marL="609480" indent="-609480">
              <a:buClr>
                <a:srgbClr val="0066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How intensively it uses the land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Intensive</a:t>
            </a: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extensive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66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Land tenure – how it owns/uses land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Sedentary</a:t>
            </a: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nomadic</a:t>
            </a: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shifting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234691-E686-4C56-B6BD-3690081C7EE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Comic Sans MS"/>
              </a:rPr>
              <a:t>Which words might refer to these?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50560" y="1052280"/>
            <a:ext cx="242892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Arable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Commercial farms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Extensive agriculture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Horticultural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Intensive agriculture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607080" y="1052280"/>
            <a:ext cx="22860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Mixed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SzPct val="13712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Nomadic farmers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SzPct val="137123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Pastoral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SzPct val="137123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Sedentary Farmers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SzPct val="137123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Shifting agriculture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SzPct val="137123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Subsistence farms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2"/>
          <a:stretch/>
        </p:blipFill>
        <p:spPr>
          <a:xfrm>
            <a:off x="4572000" y="5084640"/>
            <a:ext cx="1800360" cy="127332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13"/>
          <a:stretch/>
        </p:blipFill>
        <p:spPr>
          <a:xfrm>
            <a:off x="2700360" y="3357720"/>
            <a:ext cx="1857240" cy="1800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14"/>
          <a:stretch/>
        </p:blipFill>
        <p:spPr>
          <a:xfrm>
            <a:off x="4716360" y="1197000"/>
            <a:ext cx="1490760" cy="139068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15"/>
          <a:stretch/>
        </p:blipFill>
        <p:spPr>
          <a:xfrm>
            <a:off x="2916360" y="836640"/>
            <a:ext cx="1512720" cy="175428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16"/>
          <a:stretch/>
        </p:blipFill>
        <p:spPr>
          <a:xfrm>
            <a:off x="4572000" y="2708280"/>
            <a:ext cx="1754280" cy="223344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499597-E86B-4C86-A73C-F73A8FEEA5F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Comic Sans MS"/>
              </a:rPr>
              <a:t>The Natural Greenhouse Effect at work</a:t>
            </a:r>
            <a:endParaRPr b="0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551016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The Earth is covered by a blanket of gas. 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The energy from the Sun reaches the Earth’s surface, where some it is converted to heat energy.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Most of the heat( blue arrows) is re-radiated towards space, but some is trapped by the greenhouse gases in the atmosphere. 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This natural effect allows the Earth’s temperature to be kept at a level necessary to support life.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5"/>
          <a:stretch/>
        </p:blipFill>
        <p:spPr>
          <a:xfrm>
            <a:off x="6227640" y="1268280"/>
            <a:ext cx="2714760" cy="5000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726C74-A013-443A-BDA5-BEDD7C0719C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Comic Sans MS"/>
              </a:rPr>
              <a:t>The Natural Greenhouse Effect at work</a:t>
            </a:r>
            <a:endParaRPr b="0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439416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The main Greenhouse Gas is Carbon Dioxide. 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Until the last 200 years, the amount of CO</a:t>
            </a:r>
            <a:r>
              <a:rPr b="0" lang="en-US" sz="2400" spc="-1" strike="noStrike" baseline="-25000">
                <a:solidFill>
                  <a:srgbClr val="006699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 has remained stable.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This is why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4"/>
          <a:stretch/>
        </p:blipFill>
        <p:spPr>
          <a:xfrm>
            <a:off x="4427640" y="1197000"/>
            <a:ext cx="4228920" cy="467676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250920" y="3624480"/>
            <a:ext cx="4098960" cy="288108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Key Idea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The natural greenhouse effect helps the Earth stay warm/get hotter. The carbon dioxide/oxygen in the air traps enough of the Sun’s heat to do this. The CO</a:t>
            </a:r>
            <a:r>
              <a:rPr b="0" lang="en-US" sz="1800" spc="-1" strike="noStrike" baseline="-25000">
                <a:solidFill>
                  <a:srgbClr val="006699"/>
                </a:solidFill>
                <a:latin typeface="Verdana"/>
              </a:rPr>
              <a:t>2</a:t>
            </a: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 stays the same because animals breath it in/out and plants take it in/out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66C2E0-69F3-4DDB-812B-F0E20530D5B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Comic Sans MS"/>
              </a:rPr>
              <a:t>But then there is the Enhanced Greenhouse Effect</a:t>
            </a:r>
            <a:endParaRPr b="0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50560" y="1413000"/>
            <a:ext cx="424332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Look how this is different!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Much more of the heat from the sun gets trapped in the atmosphere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So the Earth gets hotter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4"/>
          <a:stretch/>
        </p:blipFill>
        <p:spPr>
          <a:xfrm>
            <a:off x="5251320" y="1376280"/>
            <a:ext cx="3038760" cy="489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8DDB7D-027F-4A6A-9274-A4E2D8F2D53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Comic Sans MS"/>
              </a:rPr>
              <a:t>Why is more heat getting trapped?</a:t>
            </a:r>
            <a:endParaRPr b="0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250560" y="4313160"/>
            <a:ext cx="8404200" cy="22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We are taking the stored carbon from the ground (oil and coal and gas) and burning it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This releases the CO</a:t>
            </a:r>
            <a:r>
              <a:rPr b="0" lang="en-US" sz="2800" spc="-1" strike="noStrike" baseline="-25000">
                <a:solidFill>
                  <a:srgbClr val="006699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 and so the main greenhouse gas is increasing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3"/>
          <a:stretch/>
        </p:blipFill>
        <p:spPr>
          <a:xfrm>
            <a:off x="2195640" y="981000"/>
            <a:ext cx="4248000" cy="3105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BF81DA-7515-4B4A-B62A-AC78367CF8B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6T15:17:54Z</dcterms:created>
  <dc:creator>Lindy</dc:creator>
  <dc:description/>
  <dc:language>en-US</dc:language>
  <cp:lastModifiedBy>Lindy</cp:lastModifiedBy>
  <dcterms:modified xsi:type="dcterms:W3CDTF">2010-06-19T13:16:02Z</dcterms:modified>
  <cp:revision>5</cp:revision>
  <dc:subject/>
  <dc:title>Revision part 2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